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0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C7D-281D-4D25-BC51-E3D46819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ECD-B9A0-4EC8-B931-FA99649E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CA4-134A-4CB4-BAE2-53BEAC31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610-59CA-45B9-91B4-0143953C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00CD-3497-46EF-82D5-6ECF471D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A451-3245-4303-AF18-18E060CD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417D-21DF-49FE-96E5-D074E502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FA11-5504-4FAC-8301-DD0C4D6A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F5A1-65B8-4F9F-B288-CB3028BE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A08C-E1E5-466E-84D5-44727EB6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2B28-2C6B-41C6-9B0C-955BD312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2885-5762-4C74-B5D6-72636968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01A8-8D02-40ED-BBA9-103E4B2D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449C-7E67-4678-923B-4865EB8A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7D30-5B86-41C8-9642-0CE47202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13A1-0AAF-4FE5-9EB6-2BB099E3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9590-3D4C-4E59-86EE-43E326AF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8FF-CA93-4D7C-B6E1-92DB2F4A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2F4-8CB3-45CD-855F-7C2DECE4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87E-BC99-44DD-A5A2-0B8F78C9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4FE-6133-45EC-83FB-31AA454E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4EE-C1E1-479E-84EA-DF053ACC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1FD-8F60-4D41-9A7E-615BB5A0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83E1-37DD-4E78-AAA3-20F34916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5702400"/>
            <a:ext cx="9175680" cy="1171440"/>
            <a:chOff x="-12600" y="5702400"/>
            <a:chExt cx="9175680" cy="1171440"/>
          </a:xfrm>
        </p:grpSpPr>
        <p:sp>
          <p:nvSpPr>
            <p:cNvPr id="1" name="Freeform 3"/>
            <p:cNvSpPr/>
            <p:nvPr/>
          </p:nvSpPr>
          <p:spPr>
            <a:xfrm>
              <a:off x="111240" y="5702400"/>
              <a:ext cx="8997840" cy="928440"/>
            </a:xfrm>
            <a:custGeom>
              <a:avLst/>
              <a:gdLst>
                <a:gd name="textAreaLeft" fmla="*/ 0 w 8997840"/>
                <a:gd name="textAreaRight" fmla="*/ 8998200 w 899784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5668" h="585">
                  <a:moveTo>
                    <a:pt x="0" y="94"/>
                  </a:moveTo>
                  <a:lnTo>
                    <a:pt x="4" y="584"/>
                  </a:lnTo>
                  <a:lnTo>
                    <a:pt x="5667" y="584"/>
                  </a:lnTo>
                  <a:lnTo>
                    <a:pt x="5650" y="94"/>
                  </a:lnTo>
                  <a:lnTo>
                    <a:pt x="5555" y="0"/>
                  </a:lnTo>
                  <a:lnTo>
                    <a:pt x="5460" y="94"/>
                  </a:lnTo>
                  <a:lnTo>
                    <a:pt x="5365" y="0"/>
                  </a:lnTo>
                  <a:lnTo>
                    <a:pt x="5270" y="94"/>
                  </a:lnTo>
                  <a:lnTo>
                    <a:pt x="5175" y="0"/>
                  </a:lnTo>
                  <a:lnTo>
                    <a:pt x="5080" y="94"/>
                  </a:lnTo>
                  <a:lnTo>
                    <a:pt x="4985" y="0"/>
                  </a:lnTo>
                  <a:lnTo>
                    <a:pt x="4890" y="94"/>
                  </a:lnTo>
                  <a:lnTo>
                    <a:pt x="4795" y="0"/>
                  </a:lnTo>
                  <a:lnTo>
                    <a:pt x="4700" y="94"/>
                  </a:lnTo>
                  <a:lnTo>
                    <a:pt x="4606" y="0"/>
                  </a:lnTo>
                  <a:lnTo>
                    <a:pt x="4510" y="94"/>
                  </a:lnTo>
                  <a:lnTo>
                    <a:pt x="4416" y="0"/>
                  </a:lnTo>
                  <a:lnTo>
                    <a:pt x="4320" y="94"/>
                  </a:lnTo>
                  <a:lnTo>
                    <a:pt x="4225" y="0"/>
                  </a:lnTo>
                  <a:lnTo>
                    <a:pt x="4131" y="94"/>
                  </a:lnTo>
                  <a:lnTo>
                    <a:pt x="4035" y="0"/>
                  </a:lnTo>
                  <a:lnTo>
                    <a:pt x="3941" y="94"/>
                  </a:lnTo>
                  <a:lnTo>
                    <a:pt x="3846" y="0"/>
                  </a:lnTo>
                  <a:lnTo>
                    <a:pt x="3750" y="94"/>
                  </a:lnTo>
                  <a:lnTo>
                    <a:pt x="3656" y="0"/>
                  </a:lnTo>
                  <a:lnTo>
                    <a:pt x="3560" y="94"/>
                  </a:lnTo>
                  <a:lnTo>
                    <a:pt x="3466" y="0"/>
                  </a:lnTo>
                  <a:lnTo>
                    <a:pt x="3371" y="94"/>
                  </a:lnTo>
                  <a:lnTo>
                    <a:pt x="3275" y="0"/>
                  </a:lnTo>
                  <a:lnTo>
                    <a:pt x="3258" y="77"/>
                  </a:lnTo>
                  <a:lnTo>
                    <a:pt x="3252" y="159"/>
                  </a:lnTo>
                  <a:lnTo>
                    <a:pt x="3223" y="235"/>
                  </a:lnTo>
                  <a:lnTo>
                    <a:pt x="3187" y="318"/>
                  </a:lnTo>
                  <a:lnTo>
                    <a:pt x="3127" y="382"/>
                  </a:lnTo>
                  <a:lnTo>
                    <a:pt x="3056" y="441"/>
                  </a:lnTo>
                  <a:lnTo>
                    <a:pt x="2932" y="488"/>
                  </a:lnTo>
                  <a:lnTo>
                    <a:pt x="2825" y="500"/>
                  </a:lnTo>
                  <a:lnTo>
                    <a:pt x="2724" y="476"/>
                  </a:lnTo>
                  <a:lnTo>
                    <a:pt x="2629" y="441"/>
                  </a:lnTo>
                  <a:lnTo>
                    <a:pt x="2534" y="352"/>
                  </a:lnTo>
                  <a:lnTo>
                    <a:pt x="2475" y="259"/>
                  </a:lnTo>
                  <a:lnTo>
                    <a:pt x="2451" y="171"/>
                  </a:lnTo>
                  <a:lnTo>
                    <a:pt x="2433" y="95"/>
                  </a:lnTo>
                  <a:lnTo>
                    <a:pt x="2373" y="0"/>
                  </a:lnTo>
                  <a:lnTo>
                    <a:pt x="2279" y="94"/>
                  </a:lnTo>
                  <a:lnTo>
                    <a:pt x="2184" y="0"/>
                  </a:lnTo>
                  <a:lnTo>
                    <a:pt x="2089" y="94"/>
                  </a:lnTo>
                  <a:lnTo>
                    <a:pt x="1994" y="0"/>
                  </a:lnTo>
                  <a:lnTo>
                    <a:pt x="1898" y="94"/>
                  </a:lnTo>
                  <a:lnTo>
                    <a:pt x="1804" y="0"/>
                  </a:lnTo>
                  <a:lnTo>
                    <a:pt x="1709" y="94"/>
                  </a:lnTo>
                  <a:lnTo>
                    <a:pt x="1614" y="0"/>
                  </a:lnTo>
                  <a:lnTo>
                    <a:pt x="1519" y="94"/>
                  </a:lnTo>
                  <a:lnTo>
                    <a:pt x="1424" y="0"/>
                  </a:lnTo>
                  <a:lnTo>
                    <a:pt x="1329" y="94"/>
                  </a:lnTo>
                  <a:lnTo>
                    <a:pt x="1220" y="0"/>
                  </a:lnTo>
                  <a:lnTo>
                    <a:pt x="1139" y="94"/>
                  </a:lnTo>
                  <a:lnTo>
                    <a:pt x="1044" y="0"/>
                  </a:lnTo>
                  <a:lnTo>
                    <a:pt x="949" y="94"/>
                  </a:lnTo>
                  <a:lnTo>
                    <a:pt x="854" y="0"/>
                  </a:lnTo>
                  <a:lnTo>
                    <a:pt x="759" y="94"/>
                  </a:lnTo>
                  <a:lnTo>
                    <a:pt x="665" y="0"/>
                  </a:lnTo>
                  <a:lnTo>
                    <a:pt x="569" y="94"/>
                  </a:lnTo>
                  <a:lnTo>
                    <a:pt x="474" y="0"/>
                  </a:lnTo>
                  <a:lnTo>
                    <a:pt x="379" y="94"/>
                  </a:lnTo>
                  <a:lnTo>
                    <a:pt x="284" y="0"/>
                  </a:lnTo>
                  <a:lnTo>
                    <a:pt x="195" y="94"/>
                  </a:lnTo>
                  <a:lnTo>
                    <a:pt x="94" y="0"/>
                  </a:lnTo>
                  <a:lnTo>
                    <a:pt x="0" y="94"/>
                  </a:lnTo>
                </a:path>
              </a:pathLst>
            </a:cu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12600" y="5743440"/>
              <a:ext cx="9175680" cy="1130400"/>
            </a:xfrm>
            <a:custGeom>
              <a:avLst/>
              <a:gdLst>
                <a:gd name="textAreaLeft" fmla="*/ 0 w 9175680"/>
                <a:gd name="textAreaRight" fmla="*/ 9176040 w 9175680"/>
                <a:gd name="textAreaTop" fmla="*/ 0 h 1130400"/>
                <a:gd name="textAreaBottom" fmla="*/ 1130760 h 1130400"/>
              </a:gdLst>
              <a:ahLst/>
              <a:rect l="textAreaLeft" t="textAreaTop" r="textAreaRight" b="textAreaBottom"/>
              <a:pathLst>
                <a:path w="5780" h="712">
                  <a:moveTo>
                    <a:pt x="0" y="96"/>
                  </a:moveTo>
                  <a:lnTo>
                    <a:pt x="0" y="711"/>
                  </a:lnTo>
                  <a:lnTo>
                    <a:pt x="5777" y="711"/>
                  </a:lnTo>
                  <a:lnTo>
                    <a:pt x="5779" y="0"/>
                  </a:lnTo>
                  <a:lnTo>
                    <a:pt x="5718" y="96"/>
                  </a:lnTo>
                  <a:lnTo>
                    <a:pt x="5621" y="0"/>
                  </a:lnTo>
                  <a:lnTo>
                    <a:pt x="5525" y="96"/>
                  </a:lnTo>
                  <a:lnTo>
                    <a:pt x="5430" y="0"/>
                  </a:lnTo>
                  <a:lnTo>
                    <a:pt x="5333" y="96"/>
                  </a:lnTo>
                  <a:lnTo>
                    <a:pt x="5237" y="0"/>
                  </a:lnTo>
                  <a:lnTo>
                    <a:pt x="5140" y="96"/>
                  </a:lnTo>
                  <a:lnTo>
                    <a:pt x="5045" y="0"/>
                  </a:lnTo>
                  <a:lnTo>
                    <a:pt x="4949" y="96"/>
                  </a:lnTo>
                  <a:lnTo>
                    <a:pt x="4852" y="0"/>
                  </a:lnTo>
                  <a:lnTo>
                    <a:pt x="4756" y="96"/>
                  </a:lnTo>
                  <a:lnTo>
                    <a:pt x="4661" y="0"/>
                  </a:lnTo>
                  <a:lnTo>
                    <a:pt x="4564" y="96"/>
                  </a:lnTo>
                  <a:lnTo>
                    <a:pt x="4468" y="0"/>
                  </a:lnTo>
                  <a:lnTo>
                    <a:pt x="4372" y="96"/>
                  </a:lnTo>
                  <a:lnTo>
                    <a:pt x="4276" y="0"/>
                  </a:lnTo>
                  <a:lnTo>
                    <a:pt x="4180" y="96"/>
                  </a:lnTo>
                  <a:lnTo>
                    <a:pt x="4083" y="0"/>
                  </a:lnTo>
                  <a:lnTo>
                    <a:pt x="3988" y="96"/>
                  </a:lnTo>
                  <a:lnTo>
                    <a:pt x="3892" y="0"/>
                  </a:lnTo>
                  <a:lnTo>
                    <a:pt x="3795" y="96"/>
                  </a:lnTo>
                  <a:lnTo>
                    <a:pt x="3700" y="1"/>
                  </a:lnTo>
                  <a:lnTo>
                    <a:pt x="3603" y="96"/>
                  </a:lnTo>
                  <a:lnTo>
                    <a:pt x="3507" y="0"/>
                  </a:lnTo>
                  <a:lnTo>
                    <a:pt x="3411" y="96"/>
                  </a:lnTo>
                  <a:lnTo>
                    <a:pt x="3315" y="1"/>
                  </a:lnTo>
                  <a:lnTo>
                    <a:pt x="3297" y="79"/>
                  </a:lnTo>
                  <a:lnTo>
                    <a:pt x="3291" y="162"/>
                  </a:lnTo>
                  <a:lnTo>
                    <a:pt x="3261" y="241"/>
                  </a:lnTo>
                  <a:lnTo>
                    <a:pt x="3225" y="325"/>
                  </a:lnTo>
                  <a:lnTo>
                    <a:pt x="3164" y="390"/>
                  </a:lnTo>
                  <a:lnTo>
                    <a:pt x="3092" y="450"/>
                  </a:lnTo>
                  <a:lnTo>
                    <a:pt x="2967" y="499"/>
                  </a:lnTo>
                  <a:lnTo>
                    <a:pt x="2859" y="511"/>
                  </a:lnTo>
                  <a:lnTo>
                    <a:pt x="2757" y="487"/>
                  </a:lnTo>
                  <a:lnTo>
                    <a:pt x="2660" y="450"/>
                  </a:lnTo>
                  <a:lnTo>
                    <a:pt x="2564" y="360"/>
                  </a:lnTo>
                  <a:lnTo>
                    <a:pt x="2505" y="265"/>
                  </a:lnTo>
                  <a:lnTo>
                    <a:pt x="2480" y="174"/>
                  </a:lnTo>
                  <a:lnTo>
                    <a:pt x="2462" y="97"/>
                  </a:lnTo>
                  <a:lnTo>
                    <a:pt x="2402" y="0"/>
                  </a:lnTo>
                  <a:lnTo>
                    <a:pt x="2306" y="96"/>
                  </a:lnTo>
                  <a:lnTo>
                    <a:pt x="2210" y="0"/>
                  </a:lnTo>
                  <a:lnTo>
                    <a:pt x="2113" y="96"/>
                  </a:lnTo>
                  <a:lnTo>
                    <a:pt x="2018" y="0"/>
                  </a:lnTo>
                  <a:lnTo>
                    <a:pt x="1921" y="96"/>
                  </a:lnTo>
                  <a:lnTo>
                    <a:pt x="1825" y="0"/>
                  </a:lnTo>
                  <a:lnTo>
                    <a:pt x="1730" y="96"/>
                  </a:lnTo>
                  <a:lnTo>
                    <a:pt x="1633" y="0"/>
                  </a:lnTo>
                  <a:lnTo>
                    <a:pt x="1537" y="96"/>
                  </a:lnTo>
                  <a:lnTo>
                    <a:pt x="1441" y="0"/>
                  </a:lnTo>
                  <a:lnTo>
                    <a:pt x="1345" y="96"/>
                  </a:lnTo>
                  <a:lnTo>
                    <a:pt x="1235" y="0"/>
                  </a:lnTo>
                  <a:lnTo>
                    <a:pt x="1152" y="96"/>
                  </a:lnTo>
                  <a:lnTo>
                    <a:pt x="1056" y="0"/>
                  </a:lnTo>
                  <a:lnTo>
                    <a:pt x="961" y="96"/>
                  </a:lnTo>
                  <a:lnTo>
                    <a:pt x="864" y="0"/>
                  </a:lnTo>
                  <a:lnTo>
                    <a:pt x="768" y="96"/>
                  </a:lnTo>
                  <a:lnTo>
                    <a:pt x="673" y="0"/>
                  </a:lnTo>
                  <a:lnTo>
                    <a:pt x="576" y="96"/>
                  </a:lnTo>
                  <a:lnTo>
                    <a:pt x="480" y="0"/>
                  </a:lnTo>
                  <a:lnTo>
                    <a:pt x="383" y="96"/>
                  </a:lnTo>
                  <a:lnTo>
                    <a:pt x="288" y="0"/>
                  </a:lnTo>
                  <a:lnTo>
                    <a:pt x="197" y="96"/>
                  </a:lnTo>
                  <a:lnTo>
                    <a:pt x="95" y="0"/>
                  </a:lnTo>
                  <a:lnTo>
                    <a:pt x="0" y="96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EABE-F26E-4A37-B4C8-88BB030AB4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3416400"/>
            <a:ext cx="9167760" cy="3457440"/>
            <a:chOff x="0" y="3416400"/>
            <a:chExt cx="9167760" cy="3457440"/>
          </a:xfrm>
        </p:grpSpPr>
        <p:sp>
          <p:nvSpPr>
            <p:cNvPr id="45" name="Freeform 3"/>
            <p:cNvSpPr/>
            <p:nvPr/>
          </p:nvSpPr>
          <p:spPr>
            <a:xfrm>
              <a:off x="146160" y="3416400"/>
              <a:ext cx="8993160" cy="3436920"/>
            </a:xfrm>
            <a:custGeom>
              <a:avLst/>
              <a:gdLst>
                <a:gd name="textAreaLeft" fmla="*/ 0 w 8993160"/>
                <a:gd name="textAreaRight" fmla="*/ 8993520 w 8993160"/>
                <a:gd name="textAreaTop" fmla="*/ 0 h 3436920"/>
                <a:gd name="textAreaBottom" fmla="*/ 3437280 h 3436920"/>
              </a:gdLst>
              <a:ahLst/>
              <a:rect l="textAreaLeft" t="textAreaTop" r="textAreaRight" b="textAreaBottom"/>
              <a:pathLst>
                <a:path w="5665" h="2165">
                  <a:moveTo>
                    <a:pt x="0" y="94"/>
                  </a:moveTo>
                  <a:lnTo>
                    <a:pt x="0" y="2123"/>
                  </a:lnTo>
                  <a:lnTo>
                    <a:pt x="5664" y="2164"/>
                  </a:lnTo>
                  <a:lnTo>
                    <a:pt x="5650" y="94"/>
                  </a:lnTo>
                  <a:lnTo>
                    <a:pt x="5555" y="0"/>
                  </a:lnTo>
                  <a:lnTo>
                    <a:pt x="5460" y="94"/>
                  </a:lnTo>
                  <a:lnTo>
                    <a:pt x="5366" y="0"/>
                  </a:lnTo>
                  <a:lnTo>
                    <a:pt x="5270" y="94"/>
                  </a:lnTo>
                  <a:lnTo>
                    <a:pt x="5175" y="0"/>
                  </a:lnTo>
                  <a:lnTo>
                    <a:pt x="5080" y="94"/>
                  </a:lnTo>
                  <a:lnTo>
                    <a:pt x="4985" y="0"/>
                  </a:lnTo>
                  <a:lnTo>
                    <a:pt x="4891" y="94"/>
                  </a:lnTo>
                  <a:lnTo>
                    <a:pt x="4795" y="0"/>
                  </a:lnTo>
                  <a:lnTo>
                    <a:pt x="4700" y="94"/>
                  </a:lnTo>
                  <a:lnTo>
                    <a:pt x="4606" y="0"/>
                  </a:lnTo>
                  <a:lnTo>
                    <a:pt x="4510" y="94"/>
                  </a:lnTo>
                  <a:lnTo>
                    <a:pt x="4416" y="0"/>
                  </a:lnTo>
                  <a:lnTo>
                    <a:pt x="4320" y="94"/>
                  </a:lnTo>
                  <a:lnTo>
                    <a:pt x="4225" y="0"/>
                  </a:lnTo>
                  <a:lnTo>
                    <a:pt x="4131" y="94"/>
                  </a:lnTo>
                  <a:lnTo>
                    <a:pt x="4035" y="0"/>
                  </a:lnTo>
                  <a:lnTo>
                    <a:pt x="3941" y="94"/>
                  </a:lnTo>
                  <a:lnTo>
                    <a:pt x="3846" y="0"/>
                  </a:lnTo>
                  <a:lnTo>
                    <a:pt x="3750" y="94"/>
                  </a:lnTo>
                  <a:lnTo>
                    <a:pt x="3656" y="0"/>
                  </a:lnTo>
                  <a:lnTo>
                    <a:pt x="3560" y="94"/>
                  </a:lnTo>
                  <a:lnTo>
                    <a:pt x="3466" y="0"/>
                  </a:lnTo>
                  <a:lnTo>
                    <a:pt x="3371" y="94"/>
                  </a:lnTo>
                  <a:lnTo>
                    <a:pt x="3275" y="0"/>
                  </a:lnTo>
                  <a:lnTo>
                    <a:pt x="3258" y="77"/>
                  </a:lnTo>
                  <a:lnTo>
                    <a:pt x="3252" y="159"/>
                  </a:lnTo>
                  <a:lnTo>
                    <a:pt x="3223" y="235"/>
                  </a:lnTo>
                  <a:lnTo>
                    <a:pt x="3187" y="318"/>
                  </a:lnTo>
                  <a:lnTo>
                    <a:pt x="3127" y="382"/>
                  </a:lnTo>
                  <a:lnTo>
                    <a:pt x="3056" y="441"/>
                  </a:lnTo>
                  <a:lnTo>
                    <a:pt x="2932" y="488"/>
                  </a:lnTo>
                  <a:lnTo>
                    <a:pt x="2825" y="500"/>
                  </a:lnTo>
                  <a:lnTo>
                    <a:pt x="2724" y="476"/>
                  </a:lnTo>
                  <a:lnTo>
                    <a:pt x="2629" y="441"/>
                  </a:lnTo>
                  <a:lnTo>
                    <a:pt x="2534" y="352"/>
                  </a:lnTo>
                  <a:lnTo>
                    <a:pt x="2475" y="259"/>
                  </a:lnTo>
                  <a:lnTo>
                    <a:pt x="2451" y="171"/>
                  </a:lnTo>
                  <a:lnTo>
                    <a:pt x="2433" y="95"/>
                  </a:lnTo>
                  <a:lnTo>
                    <a:pt x="2373" y="0"/>
                  </a:lnTo>
                  <a:lnTo>
                    <a:pt x="2279" y="94"/>
                  </a:lnTo>
                  <a:lnTo>
                    <a:pt x="2184" y="0"/>
                  </a:lnTo>
                  <a:lnTo>
                    <a:pt x="2089" y="94"/>
                  </a:lnTo>
                  <a:lnTo>
                    <a:pt x="1994" y="0"/>
                  </a:lnTo>
                  <a:lnTo>
                    <a:pt x="1898" y="94"/>
                  </a:lnTo>
                  <a:lnTo>
                    <a:pt x="1804" y="0"/>
                  </a:lnTo>
                  <a:lnTo>
                    <a:pt x="1709" y="94"/>
                  </a:lnTo>
                  <a:lnTo>
                    <a:pt x="1614" y="0"/>
                  </a:lnTo>
                  <a:lnTo>
                    <a:pt x="1519" y="94"/>
                  </a:lnTo>
                  <a:lnTo>
                    <a:pt x="1424" y="0"/>
                  </a:lnTo>
                  <a:lnTo>
                    <a:pt x="1329" y="94"/>
                  </a:lnTo>
                  <a:lnTo>
                    <a:pt x="1220" y="0"/>
                  </a:lnTo>
                  <a:lnTo>
                    <a:pt x="1139" y="94"/>
                  </a:lnTo>
                  <a:lnTo>
                    <a:pt x="1044" y="0"/>
                  </a:lnTo>
                  <a:lnTo>
                    <a:pt x="949" y="94"/>
                  </a:lnTo>
                  <a:lnTo>
                    <a:pt x="854" y="0"/>
                  </a:lnTo>
                  <a:lnTo>
                    <a:pt x="759" y="94"/>
                  </a:lnTo>
                  <a:lnTo>
                    <a:pt x="665" y="0"/>
                  </a:lnTo>
                  <a:lnTo>
                    <a:pt x="569" y="94"/>
                  </a:lnTo>
                  <a:lnTo>
                    <a:pt x="474" y="0"/>
                  </a:lnTo>
                  <a:lnTo>
                    <a:pt x="379" y="94"/>
                  </a:lnTo>
                  <a:lnTo>
                    <a:pt x="284" y="0"/>
                  </a:lnTo>
                  <a:lnTo>
                    <a:pt x="195" y="94"/>
                  </a:lnTo>
                  <a:lnTo>
                    <a:pt x="94" y="0"/>
                  </a:lnTo>
                  <a:lnTo>
                    <a:pt x="0" y="94"/>
                  </a:lnTo>
                </a:path>
              </a:pathLst>
            </a:cu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3427560"/>
              <a:ext cx="9167760" cy="3446280"/>
            </a:xfrm>
            <a:custGeom>
              <a:avLst/>
              <a:gdLst>
                <a:gd name="textAreaLeft" fmla="*/ 0 w 9167760"/>
                <a:gd name="textAreaRight" fmla="*/ 9167760 w 9167760"/>
                <a:gd name="textAreaTop" fmla="*/ 0 h 3446280"/>
                <a:gd name="textAreaBottom" fmla="*/ 3446640 h 3446280"/>
              </a:gdLst>
              <a:ahLst/>
              <a:rect l="textAreaLeft" t="textAreaTop" r="textAreaRight" b="textAreaBottom"/>
              <a:pathLst>
                <a:path w="5775" h="2171">
                  <a:moveTo>
                    <a:pt x="0" y="96"/>
                  </a:moveTo>
                  <a:lnTo>
                    <a:pt x="0" y="2170"/>
                  </a:lnTo>
                  <a:lnTo>
                    <a:pt x="5774" y="2170"/>
                  </a:lnTo>
                  <a:lnTo>
                    <a:pt x="5772" y="0"/>
                  </a:lnTo>
                  <a:lnTo>
                    <a:pt x="5712" y="96"/>
                  </a:lnTo>
                  <a:lnTo>
                    <a:pt x="5615" y="0"/>
                  </a:lnTo>
                  <a:lnTo>
                    <a:pt x="5520" y="96"/>
                  </a:lnTo>
                  <a:lnTo>
                    <a:pt x="5424" y="0"/>
                  </a:lnTo>
                  <a:lnTo>
                    <a:pt x="5327" y="96"/>
                  </a:lnTo>
                  <a:lnTo>
                    <a:pt x="5232" y="0"/>
                  </a:lnTo>
                  <a:lnTo>
                    <a:pt x="5135" y="96"/>
                  </a:lnTo>
                  <a:lnTo>
                    <a:pt x="5039" y="0"/>
                  </a:lnTo>
                  <a:lnTo>
                    <a:pt x="4944" y="96"/>
                  </a:lnTo>
                  <a:lnTo>
                    <a:pt x="4847" y="0"/>
                  </a:lnTo>
                  <a:lnTo>
                    <a:pt x="4752" y="96"/>
                  </a:lnTo>
                  <a:lnTo>
                    <a:pt x="4656" y="0"/>
                  </a:lnTo>
                  <a:lnTo>
                    <a:pt x="4559" y="96"/>
                  </a:lnTo>
                  <a:lnTo>
                    <a:pt x="4464" y="0"/>
                  </a:lnTo>
                  <a:lnTo>
                    <a:pt x="4367" y="96"/>
                  </a:lnTo>
                  <a:lnTo>
                    <a:pt x="4271" y="0"/>
                  </a:lnTo>
                  <a:lnTo>
                    <a:pt x="4176" y="96"/>
                  </a:lnTo>
                  <a:lnTo>
                    <a:pt x="4079" y="0"/>
                  </a:lnTo>
                  <a:lnTo>
                    <a:pt x="3984" y="96"/>
                  </a:lnTo>
                  <a:lnTo>
                    <a:pt x="3888" y="0"/>
                  </a:lnTo>
                  <a:lnTo>
                    <a:pt x="3791" y="96"/>
                  </a:lnTo>
                  <a:lnTo>
                    <a:pt x="3696" y="1"/>
                  </a:lnTo>
                  <a:lnTo>
                    <a:pt x="3599" y="96"/>
                  </a:lnTo>
                  <a:lnTo>
                    <a:pt x="3503" y="0"/>
                  </a:lnTo>
                  <a:lnTo>
                    <a:pt x="3408" y="96"/>
                  </a:lnTo>
                  <a:lnTo>
                    <a:pt x="3311" y="1"/>
                  </a:lnTo>
                  <a:lnTo>
                    <a:pt x="3294" y="79"/>
                  </a:lnTo>
                  <a:lnTo>
                    <a:pt x="3287" y="162"/>
                  </a:lnTo>
                  <a:lnTo>
                    <a:pt x="3258" y="241"/>
                  </a:lnTo>
                  <a:lnTo>
                    <a:pt x="3222" y="325"/>
                  </a:lnTo>
                  <a:lnTo>
                    <a:pt x="3161" y="390"/>
                  </a:lnTo>
                  <a:lnTo>
                    <a:pt x="3089" y="451"/>
                  </a:lnTo>
                  <a:lnTo>
                    <a:pt x="2964" y="499"/>
                  </a:lnTo>
                  <a:lnTo>
                    <a:pt x="2856" y="511"/>
                  </a:lnTo>
                  <a:lnTo>
                    <a:pt x="2754" y="487"/>
                  </a:lnTo>
                  <a:lnTo>
                    <a:pt x="2657" y="451"/>
                  </a:lnTo>
                  <a:lnTo>
                    <a:pt x="2562" y="360"/>
                  </a:lnTo>
                  <a:lnTo>
                    <a:pt x="2502" y="265"/>
                  </a:lnTo>
                  <a:lnTo>
                    <a:pt x="2477" y="174"/>
                  </a:lnTo>
                  <a:lnTo>
                    <a:pt x="2460" y="97"/>
                  </a:lnTo>
                  <a:lnTo>
                    <a:pt x="2399" y="0"/>
                  </a:lnTo>
                  <a:lnTo>
                    <a:pt x="2304" y="96"/>
                  </a:lnTo>
                  <a:lnTo>
                    <a:pt x="2208" y="0"/>
                  </a:lnTo>
                  <a:lnTo>
                    <a:pt x="2111" y="96"/>
                  </a:lnTo>
                  <a:lnTo>
                    <a:pt x="2016" y="0"/>
                  </a:lnTo>
                  <a:lnTo>
                    <a:pt x="1919" y="96"/>
                  </a:lnTo>
                  <a:lnTo>
                    <a:pt x="1823" y="0"/>
                  </a:lnTo>
                  <a:lnTo>
                    <a:pt x="1728" y="96"/>
                  </a:lnTo>
                  <a:lnTo>
                    <a:pt x="1631" y="0"/>
                  </a:lnTo>
                  <a:lnTo>
                    <a:pt x="1536" y="96"/>
                  </a:lnTo>
                  <a:lnTo>
                    <a:pt x="1440" y="0"/>
                  </a:lnTo>
                  <a:lnTo>
                    <a:pt x="1343" y="96"/>
                  </a:lnTo>
                  <a:lnTo>
                    <a:pt x="1233" y="0"/>
                  </a:lnTo>
                  <a:lnTo>
                    <a:pt x="1151" y="96"/>
                  </a:lnTo>
                  <a:lnTo>
                    <a:pt x="1055" y="0"/>
                  </a:lnTo>
                  <a:lnTo>
                    <a:pt x="960" y="96"/>
                  </a:lnTo>
                  <a:lnTo>
                    <a:pt x="863" y="0"/>
                  </a:lnTo>
                  <a:lnTo>
                    <a:pt x="768" y="96"/>
                  </a:lnTo>
                  <a:lnTo>
                    <a:pt x="672" y="0"/>
                  </a:lnTo>
                  <a:lnTo>
                    <a:pt x="575" y="96"/>
                  </a:lnTo>
                  <a:lnTo>
                    <a:pt x="480" y="0"/>
                  </a:lnTo>
                  <a:lnTo>
                    <a:pt x="383" y="96"/>
                  </a:lnTo>
                  <a:lnTo>
                    <a:pt x="287" y="0"/>
                  </a:lnTo>
                  <a:lnTo>
                    <a:pt x="197" y="96"/>
                  </a:lnTo>
                  <a:lnTo>
                    <a:pt x="95" y="0"/>
                  </a:lnTo>
                  <a:lnTo>
                    <a:pt x="0" y="96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2B86-3E81-41B2-9060-7C3A3BF8B2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Strongest%20One.htm" TargetMode="External"/><Relationship Id="rId2" Type="http://schemas.openxmlformats.org/officeDocument/2006/relationships/hyperlink" Target="http://www.scottsboro.org/~flewis/spellmaster/Strongest%20One/jigword2.html" TargetMode="External"/><Relationship Id="rId3" Type="http://schemas.openxmlformats.org/officeDocument/2006/relationships/hyperlink" Target="http://www.scottsboro.org/~flewis/spellmaster/Strongest%20One/matchword2.html" TargetMode="External"/><Relationship Id="rId4" Type="http://schemas.openxmlformats.org/officeDocument/2006/relationships/hyperlink" Target="http://www.scottsboro.org/~flewis/spellmaster/Strongest%20One/speedword2.html" TargetMode="External"/><Relationship Id="rId5" Type="http://schemas.openxmlformats.org/officeDocument/2006/relationships/hyperlink" Target="http://www.scottsboro.org/~flewis/spellmaster/Strongest%20One/wordsearch2.html" TargetMode="External"/><Relationship Id="rId6" Type="http://schemas.openxmlformats.org/officeDocument/2006/relationships/hyperlink" Target="http://www.scottsboro.org/~flewis/spellmaster/Strongest%20One/wordweb.html" TargetMode="External"/><Relationship Id="rId7" Type="http://schemas.openxmlformats.org/officeDocument/2006/relationships/hyperlink" Target="http://www.spellingcity.com/index.php?option=com_spellcity&amp;task=viewList&amp;listId=825867" TargetMode="External"/><Relationship Id="rId8" Type="http://schemas.openxmlformats.org/officeDocument/2006/relationships/hyperlink" Target="http://www.spellingcity.com/index.php?option=com_spellcity&amp;task=viewList&amp;listId=825871" TargetMode="External"/><Relationship Id="rId9" Type="http://schemas.openxmlformats.org/officeDocument/2006/relationships/hyperlink" Target="http://www.scottsboro.org/~flewis/spellmaster/Strongest%20One%20Spelling%20Words/speedword2.html" TargetMode="External"/><Relationship Id="rId10" Type="http://schemas.openxmlformats.org/officeDocument/2006/relationships/hyperlink" Target="http://www.scottsboro.org/~flewis/spellmaster/Strongest%20One%20Spelling%20Words/wordweb.html" TargetMode="External"/><Relationship Id="rId11" Type="http://schemas.openxmlformats.org/officeDocument/2006/relationships/hyperlink" Target="http://www.quia.com/hm/313665.html" TargetMode="External"/><Relationship Id="rId12" Type="http://schemas.openxmlformats.org/officeDocument/2006/relationships/hyperlink" Target="http://www.spellingcity.com/index.php?option=com_spellcity&amp;Itemid=122&amp;task=viewList&amp;listId=354203" TargetMode="External"/><Relationship Id="rId13" Type="http://schemas.openxmlformats.org/officeDocument/2006/relationships/hyperlink" Target="http://www.scottsboro.org/~flewis/SF%20Reading%20Street/Hot%20Potatoes/Strongest_One.htm" TargetMode="External"/><Relationship Id="rId14" Type="http://schemas.openxmlformats.org/officeDocument/2006/relationships/hyperlink" Target="http://www.spellingcity.com/index.php?option=com_spellcity&amp;task=viewList&amp;listId=825878" TargetMode="External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03" TargetMode="External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wog.net/uploads/Jester%25201.jpg&amp;imgrefurl=http://www.bwog.net/tags/jester&amp;usg=__k7e4oEtW117nBZyOfnAg5gNse7s=&amp;h=457&amp;w=300&amp;sz=20&amp;hl=EN&amp;start=4&amp;tbnid=e28HFnJ9KhklHM:&amp;tbnh=128&amp;tbnw=84&amp;prev=/images%3Fq%3Djester%26gbv%3D2%26hl%3DEN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com/imgres?imgurl=http://users.ox.ac.uk/~kgroup/tools/nest_photos/nest0002.jpg&amp;imgrefurl=http://users.ox.ac.uk/~kgroup/tools/nest_photos.shtml&amp;usg=__Fy4qmjRaEcilOp5DDmLHEyHV40E=&amp;h=375&amp;w=500&amp;sz=251&amp;hl=EN&amp;start=5&amp;tbnid=D_Ann_rhaPu7dM:&amp;tbnh=98&amp;tbnw=130&amp;prev=/images%3Fq%3Dnest%26gbv%3D2%26hl%3DEN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google.com/imgres?imgurl=http://rajagro.in/yahoo_site_admin/assets/images/radpest.255121535_std.gif&amp;imgrefurl=http://rajagro.in/services&amp;usg=__TuX8jX49XxVZsjLgPAeB3lwhP8o=&amp;h=384&amp;w=513&amp;sz=16&amp;hl=EN&amp;start=1&amp;tbnid=vzjv-1WC8773_M:&amp;tbnh=98&amp;tbnw=131&amp;prev=/images%3Fq%3Dpest%26gbv%3D2%26hl%3DEN" TargetMode="External"/><Relationship Id="rId6" Type="http://schemas.openxmlformats.org/officeDocument/2006/relationships/image" Target="../media/image30.jpeg"/><Relationship Id="rId7" Type="http://schemas.openxmlformats.org/officeDocument/2006/relationships/hyperlink" Target="http://images.google.com/imgres?imgurl=http://www.woodruffforpets.com/embroidered/ladies_vest_powderblue.jpg&amp;imgrefurl=http://www.woodruffforpets.com/embroidered-personalized-dog-cat-breed-jacket-vest-womans-mens.html&amp;usg=___Jm0LT_nuTQA-H8o71CEL4ladcQ=&amp;h=492&amp;w=345&amp;sz=130&amp;hl=EN&amp;start=7&amp;tbnid=SJpZU8f7t_JgwM:&amp;tbnh=130&amp;tbnw=91&amp;prev=/images%3Fq%3Dvest%26gbv%3D2%26hl%3DEN" TargetMode="External"/><Relationship Id="rId8" Type="http://schemas.openxmlformats.org/officeDocument/2006/relationships/image" Target="../media/image31.jpeg"/><Relationship Id="rId9" Type="http://schemas.openxmlformats.org/officeDocument/2006/relationships/hyperlink" Target="http://images.google.com/imgres?imgurl=http://www.cedaridge-farm.com/oak-hope-chest-kit.jpg&amp;imgrefurl=http://www.cedaridge-farm.com/&amp;usg=__sjtnI3_qoRjygJIKs6o-c_OzKtM=&amp;h=468&amp;w=446&amp;sz=21&amp;hl=EN&amp;start=11&amp;tbnid=70fCZAL45XjLoM:&amp;tbnh=128&amp;tbnw=122&amp;prev=/images%3Fq%3Dchest%26gbv%3D2%26hl%3DEN" TargetMode="External"/><Relationship Id="rId10" Type="http://schemas.openxmlformats.org/officeDocument/2006/relationships/image" Target="../media/image32.jpeg"/><Relationship Id="rId11" Type="http://schemas.openxmlformats.org/officeDocument/2006/relationships/hyperlink" Target="http://images.google.com/imgres?imgurl=http://uefaclubs.com/images/Bolton-Wanderers%403.-town-crest.jpg&amp;imgrefurl=http://uefaclubs.com/html/B.html&amp;usg=__GnEAuMXoQM0HRdjFImE2n8NSIC8=&amp;h=400&amp;w=400&amp;sz=164&amp;hl=EN&amp;start=19&amp;tbnid=N_paEqqdTtGIpM:&amp;tbnh=124&amp;tbnw=124&amp;prev=/images%3Fq%3Dcrest%26gbv%3D2%26hl%3DEN" TargetMode="External"/><Relationship Id="rId12" Type="http://schemas.openxmlformats.org/officeDocument/2006/relationships/image" Target="../media/image33.jpeg"/><Relationship Id="rId13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2.xml"/><Relationship Id="rId3" Type="http://schemas.openxmlformats.org/officeDocument/2006/relationships/slide" Target="slide90.xml"/><Relationship Id="rId4" Type="http://schemas.openxmlformats.org/officeDocument/2006/relationships/slide" Target="slide133.xml"/><Relationship Id="rId5" Type="http://schemas.openxmlformats.org/officeDocument/2006/relationships/slide" Target="slide155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03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2.png"/><Relationship Id="rId3" Type="http://schemas.openxmlformats.org/officeDocument/2006/relationships/hyperlink" Target="http://images.google.com/imgres?imgurl=http://mainemilitarymuseum.org/images/Smithsonian%25202.jpg&amp;imgrefurl=http://mainemilitarymuseum.org/museum.htm&amp;usg=__hsFhkL6d2PYdNFdBQocOx7f-eYc=&amp;h=816&amp;w=1229&amp;sz=346&amp;hl=EN&amp;start=7&amp;tbnid=1b-A-6cTFoPl1M:&amp;tbnh=100&amp;tbnw=150&amp;prev=/images%3Fq%3Dsmithsonian%2Bexhibits%26gbv%3D2%26hl%3DEN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lh3.ggpht.com/_kP15EMzx54A/R17CZ3Ul9VI/AAAAAAAAAjQ/CT6DppJIKnU/IMG_0629.jpg&amp;imgrefurl=http://picasaweb.google.com/lh/photo/6_dCp3UGSoAl-hbG00znsw&amp;usg=__nLGaqaRK7N4xzg9p0gKFV1unZ5M=&amp;h=1200&amp;w=1600&amp;sz=16&amp;hl=EN&amp;start=20&amp;tbnid=RUyx-jjRMBT9YM:&amp;tbnh=113&amp;tbnw=150&amp;prev=/images%3Fq%3Dsmithsonian%2Bexhibits%26gbv%3D2%26hl%3DE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image62.webshots.com/62/7/69/85/391576985RuMUYj_fs.jpg&amp;imgrefurl=http://travel.webshots.com/photo/1391576985073897170RuMUYj&amp;usg=__c0Po-B8AKWKcshqfLjAWRs8kUpA=&amp;h=1704&amp;w=2272&amp;sz=431&amp;hl=EN&amp;start=26&amp;tbnid=V8lA7Kg-jjEwOM:&amp;tbnh=112&amp;tbnw=150&amp;prev=/images%3Fq%3Dsmithsonian%2Bexhibits%26start%3D20%26gbv%3D2%26ndsp%3D20%26hl%3DEN%26sa%3DN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www.visitingdc.com/images/smithsonian-dinosaur.jpg&amp;imgrefurl=http://www.visitingdc.com/museum/smithsonian-dinosaur.htm&amp;usg=__GEJuE6eixU1jKhqQM7uUqiXrhL0=&amp;h=377&amp;w=620&amp;sz=109&amp;hl=EN&amp;start=36&amp;tbnid=tJZjy7avaWEJkM:&amp;tbnh=83&amp;tbnw=136&amp;prev=/images%3Fq%3Dsmithsonian%2Bexhibits%26start%3D20%26gbv%3D2%26ndsp%3D20%26hl%3DEN%26sa%3DN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google.com/imgres?imgurl=http://www.postalmuseum.si.edu/images/exhibits/2_15_jrduckstamp-2005-lg.jpg&amp;imgrefurl=http://www.postalmuseum.si.edu/exhibits/2_15_jrduckstamp-2005.html&amp;usg=__yoJCNh3GYAJ48DIYjIproLajLDk=&amp;h=359&amp;w=523&amp;sz=74&amp;hl=EN&amp;start=62&amp;tbnid=fjRlTi08h2mwLM:&amp;tbnh=90&amp;tbnw=131&amp;prev=/images%3Fq%3Dsmithsonian%2Bexhibits%26start%3D60%26gbv%3D2%26ndsp%3D20%26hl%3DEN%26sa%3DN" TargetMode="External"/><Relationship Id="rId12" Type="http://schemas.openxmlformats.org/officeDocument/2006/relationships/image" Target="../media/image12.jpeg"/><Relationship Id="rId13" Type="http://schemas.openxmlformats.org/officeDocument/2006/relationships/hyperlink" Target="http://images.google.com/imgres?imgurl=http://gnsi.science-art.com/GNSIDC/reports/2002Jan/Exhibit_b.jpg&amp;imgrefurl=http://gnsi.science-art.com/GNSIDC/reports/2002Jan/jan2002pt2.html&amp;usg=__PaGZbWhQ7aOovRU6ZoaU2tdavGM=&amp;h=432&amp;w=576&amp;sz=56&amp;hl=EN&amp;start=76&amp;tbnid=GjVgPA5tkgjnbM:&amp;tbnh=101&amp;tbnw=134&amp;prev=/images%3Fq%3Dsmithsonian%2Bexhibits%26start%3D60%26gbv%3D2%26ndsp%3D20%26hl%3DEN%26sa%3DN" TargetMode="External"/><Relationship Id="rId14" Type="http://schemas.openxmlformats.org/officeDocument/2006/relationships/image" Target="../media/image13.jpeg"/><Relationship Id="rId15" Type="http://schemas.openxmlformats.org/officeDocument/2006/relationships/hyperlink" Target="http://images.google.com/imgres?imgurl=http://lh3.ggpht.com/_1QZCA3zFRVY/RrkGyH85y5I/AAAAAAAAAOM/1ctxPgJR7L8/DSC_0443.JPG&amp;imgrefurl=http://picasaweb.google.com/lh/photo/Uo1pkR7uTGhJTWp1ykvcyg&amp;usg=__YP7pjKT5k5J-JZz5jed3TjrI_IQ=&amp;h=1064&amp;w=1600&amp;sz=11&amp;hl=EN&amp;start=98&amp;tbnid=lDI38UkC0ys4-M:&amp;tbnh=100&amp;tbnw=150&amp;prev=/images%3Fq%3Dsmithsonian%2Bexhibits%26start%3D80%26gbv%3D2%26ndsp%3D20%26hl%3DEN%26sa%3DN" TargetMode="External"/><Relationship Id="rId16" Type="http://schemas.openxmlformats.org/officeDocument/2006/relationships/image" Target="../media/image14.jpeg"/><Relationship Id="rId17" Type="http://schemas.openxmlformats.org/officeDocument/2006/relationships/hyperlink" Target="http://images.google.com/imgres?imgurl=http://cache.daylife.com/imageserve/06LQ2Vl5LB43m/610x.jpg&amp;imgrefurl=http://www.daylife.com/photo/06LQ2Vl5LB43m&amp;usg=__Srqg66oLGYE6ONQSItSyiH6Uz98=&amp;h=398&amp;w=610&amp;sz=93&amp;hl=EN&amp;start=176&amp;tbnid=J5f1qEIkqNY53M:&amp;tbnh=89&amp;tbnw=136&amp;prev=/images%3Fq%3Dsmithsonian%2Bexhibits%26start%3D160%26gbv%3D2%26ndsp%3D20%26hl%3DEN%26sa%3DN" TargetMode="External"/><Relationship Id="rId18" Type="http://schemas.openxmlformats.org/officeDocument/2006/relationships/image" Target="../media/image15.jpeg"/><Relationship Id="rId19" Type="http://schemas.openxmlformats.org/officeDocument/2006/relationships/hyperlink" Target="http://images.google.com/imgres?imgurl=http://www.riehlife.com/wp-content/uploads/2007/12/eric-long-smithsonian-flag-_95.gif&amp;imgrefurl=http://www.riehlife.com/2007/12/07/theres-a-star-spangled-banner-waving-somewhere-song-historical-notes-and-reflection-by-my-father-a-wwii-veteran/&amp;usg=__WKrgg7_D35MO_msKMYWzLS_uHiI=&amp;h=275&amp;w=261&amp;sz=53&amp;hl=EN&amp;start=206&amp;tbnid=ddxb-aHL1LtaVM:&amp;tbnh=114&amp;tbnw=108&amp;prev=/images%3Fq%3Dsmithsonian%2Bexhibits%26start%3D200%26gbv%3D2%26ndsp%3D20%26hl%3DEN%26sa%3DN" TargetMode="External"/><Relationship Id="rId20" Type="http://schemas.openxmlformats.org/officeDocument/2006/relationships/image" Target="../media/image16.jpeg"/><Relationship Id="rId21" Type="http://schemas.openxmlformats.org/officeDocument/2006/relationships/hyperlink" Target="http://images.google.com/imgres?imgurl=http://seattletimes.nwsource.com/ABPub/2007/11/19/2004023395.jpg&amp;imgrefurl=http://seattletimes.nwsource.com/html/travel/2004025334_webmuseumair20.html&amp;usg=__Xo6lQfSRUe0dw6bgGNOEwyrU3_Q=&amp;h=197&amp;w=296&amp;sz=17&amp;hl=EN&amp;start=235&amp;tbnid=B9Pp8UxuhrEl_M:&amp;tbnh=77&amp;tbnw=116&amp;prev=/images%3Fq%3Dsmithsonian%2Bexhibits%26start%3D220%26gbv%3D2%26ndsp%3D20%26hl%3DEN%26sa%3DN" TargetMode="External"/><Relationship Id="rId22" Type="http://schemas.openxmlformats.org/officeDocument/2006/relationships/image" Target="../media/image17.jpeg"/><Relationship Id="rId23" Type="http://schemas.openxmlformats.org/officeDocument/2006/relationships/hyperlink" Target="http://images.google.com/imgres?imgurl=http://www.chicago-l.org/museums/smithsonian/Smithsonian-CTA_bus01.jpg&amp;imgrefurl=http://www.chicago-l.org/museums/smithsonian.html&amp;usg=__aRYfxIhRNQov6WPPmaXjWsihMZs=&amp;h=675&amp;w=900&amp;sz=133&amp;hl=EN&amp;start=245&amp;tbnid=tymx4r5zhFM96M:&amp;tbnh=109&amp;tbnw=146&amp;prev=/images%3Fq%3Dsmithsonian%2Bexhibits%26start%3D240%26gbv%3D2%26ndsp%3D20%26hl%3DEN%26sa%3DN" TargetMode="External"/><Relationship Id="rId24" Type="http://schemas.openxmlformats.org/officeDocument/2006/relationships/image" Target="../media/image18.jpeg"/><Relationship Id="rId25" Type="http://schemas.openxmlformats.org/officeDocument/2006/relationships/hyperlink" Target="http://images.google.com/imgres?imgurl=http://www.civicfest.org/images/exhibits/W_The-White-House_full.jpg&amp;imgrefurl=http://www.civicfest.org/exhibits.html&amp;usg=__5_s37k5CwcAfAtMlzTnJQozqHKQ=&amp;h=562&amp;w=640&amp;sz=115&amp;hl=EN&amp;start=263&amp;tbnid=FEifrq6MHN84tM:&amp;tbnh=120&amp;tbnw=137&amp;prev=/images%3Fq%3Dsmithsonian%2Bexhibits%26start%3D260%26gbv%3D2%26ndsp%3D20%26hl%3DEN%26sa%3DN" TargetMode="External"/><Relationship Id="rId26" Type="http://schemas.openxmlformats.org/officeDocument/2006/relationships/image" Target="../media/image19.jpeg"/><Relationship Id="rId2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03" TargetMode="External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kewoodconferences.com/direct/dbimage/10220444/FE_Series_Floor_Powerful_Electric_Fan.jpg&amp;imgrefurl=http://www.lakewoodconferences.com/catalog/17/791/draught_fan.html&amp;usg=__8oeF840P7bDwXRslH62d27ETfGw=&amp;h=360&amp;w=360&amp;sz=29&amp;hl=EN&amp;start=1&amp;tbnid=8IU6o787gcb12M:&amp;tbnh=121&amp;tbnw=121&amp;prev=/images%3Fq%3Dfan%26gbv%3D2%26hl%3DEN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gadgetvenue.com/wp-content/uploads/2008/11/digital-thermoter-pan.jpg&amp;imgrefurl=http://www.gadgetvenue.com/digital-thermometer-pan-11051037/&amp;usg=__wHn_KOqOMRjgFL2C-Ij2VDJ7Tqs=&amp;h=326&amp;w=300&amp;sz=34&amp;hl=EN&amp;start=5&amp;tbnid=SqWU4ciDoP23OM:&amp;tbnh=118&amp;tbnw=109&amp;prev=/images%3Fq%3Dpan%26gbv%3D2%26hl%3DEN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s.google.com/imgres?imgurl=http://www.bourgetbros.com/site-admin/images_lotus/02122008-1232041_Java%2520Sticks%2520-%2520Tan%2520Marble.jpg&amp;imgrefurl=http://www.bourgetbros.com/category_products.php%3Fidcat%3D683&amp;usg=__DmB31l4tWjz-3DXYtXZXGKZFKbg=&amp;h=450&amp;w=600&amp;sz=114&amp;hl=EN&amp;start=32&amp;tbnid=5k_dhaMxkMIJOM:&amp;tbnh=101&amp;tbnw=135&amp;prev=/images%3Fq%3Dtan%26gbv%3D2%26ndsp%3D20%26hl%3DEN%26sa%3DN%26start%3D20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images.google.com/imgres?imgurl=http://1.bp.blogspot.com/_KM2n7lFVl5I/Rtoy8CwECQI/AAAAAAAABM0/vDHfV_htYs4/s640/VW%2BVan.JPG&amp;imgrefurl=http://nyc2dailyphoto.blogspot.com/2007/09/groovy-for-60s.html&amp;usg=__GF0QLxLS6vk6FBFAtZIGWwl-aLY=&amp;h=480&amp;w=640&amp;sz=93&amp;hl=EN&amp;start=14&amp;tbnid=kqXz-yaLNCxy-M:&amp;tbnh=103&amp;tbnw=137&amp;prev=/images%3Fq%3Dvw%2Bvan%26gbv%3D2%26hl%3DEN" TargetMode="External"/><Relationship Id="rId8" Type="http://schemas.openxmlformats.org/officeDocument/2006/relationships/image" Target="../media/image24.jpeg"/><Relationship Id="rId9" Type="http://schemas.openxmlformats.org/officeDocument/2006/relationships/hyperlink" Target="http://images.google.com/imgres?imgurl=http://www.ericgiguere.com/images/all-bran-front-400-619.jpg&amp;imgrefurl=http://www.ericgiguere.com/essays/cereal-box-celebrity-front.html&amp;usg=__-gODroiU7ODjYYcXil5NNFfE1gs=&amp;h=619&amp;w=400&amp;sz=67&amp;hl=EN&amp;start=6&amp;tbnid=zMGuMck1Ewa5wM:&amp;tbnh=136&amp;tbnw=88&amp;prev=/images%3Fq%3Dbran%26gbv%3D2%26hl%3DEN" TargetMode="External"/><Relationship Id="rId10" Type="http://schemas.openxmlformats.org/officeDocument/2006/relationships/image" Target="../media/image25.jpeg"/><Relationship Id="rId11" Type="http://schemas.openxmlformats.org/officeDocument/2006/relationships/hyperlink" Target="http://images.google.com/imgres?imgurl=http://jnch.nic.in/CT-Scan.jpg&amp;imgrefurl=http://jnch.nic.in/infra.htm&amp;usg=__suTSlDDT6DZU-zE-mdTyF6fnxBc=&amp;h=605&amp;w=901&amp;sz=54&amp;hl=EN&amp;start=19&amp;tbnid=fY-O8OH8T9VcVM:&amp;tbnh=98&amp;tbnw=146&amp;prev=/images%3Fq%3Dscan%26gbv%3D2%26hl%3DEN" TargetMode="External"/><Relationship Id="rId12" Type="http://schemas.openxmlformats.org/officeDocument/2006/relationships/image" Target="../media/image26.jpeg"/><Relationship Id="rId13" Type="http://schemas.openxmlformats.org/officeDocument/2006/relationships/hyperlink" Target="http://images.google.com/imgres?imgurl=http://www.mta.info/mta/news/releases/images/Harlem%2520Lift%2520Span.Lift%2520action.jpg&amp;imgrefurl=http://www.mta.info/mta/news/releases/%3Fen%3D080617-BT&amp;usg=__MkV4nqoQYYYqRBP4BEQXPU6D8_E=&amp;h=691&amp;w=922&amp;sz=196&amp;hl=EN&amp;start=11&amp;tbnid=ikNrbFsH8F1LdM:&amp;tbnh=110&amp;tbnw=147&amp;prev=/images%3Fq%3Dspan%26gbv%3D2%26hl%3DEN" TargetMode="External"/><Relationship Id="rId14" Type="http://schemas.openxmlformats.org/officeDocument/2006/relationships/image" Target="../media/image27.jpeg"/><Relationship Id="rId1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Hot%20Potatoes/Strongest_One.htm" TargetMode="External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Verdana"/>
              </a:rPr>
              <a:t>Review Game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920" y="990360"/>
            <a:ext cx="3124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7"/>
              </a:rPr>
              <a:t>Spelling City – vocabular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8"/>
              </a:rPr>
              <a:t>Spelling City – amazing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990360"/>
            <a:ext cx="3733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3"/>
              </a:rPr>
              <a:t>Fill-in-the Bl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4"/>
              </a:rPr>
              <a:t>Spelling 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here to Inquire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Everybody has questions. </a:t>
            </a: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Some are big; some are small. </a:t>
            </a: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How does a sturdy oak grow so high? </a:t>
            </a: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Spiders spin delicate webs. How and why?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Never be afraid to inquire. </a:t>
            </a: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Just ask someone who might know. </a:t>
            </a: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Or go look it up in a book. </a:t>
            </a: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Watch your smart self grow. </a:t>
            </a:r>
            <a:br>
              <a:rPr sz="3200"/>
            </a:br>
            <a:br>
              <a:rPr sz="3200"/>
            </a:br>
            <a:br>
              <a:rPr sz="3600"/>
            </a:br>
            <a:endParaRPr b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5334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Arial"/>
              </a:rPr>
              <a:t>Read-Aloud</a:t>
            </a:r>
            <a:endParaRPr b="1" lang="en-US" sz="5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All Alone in Dinosaur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mall Group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lued the two parts _______ and mad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lued the two part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d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___ of pizza would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lued the two part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d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izza would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plays the piano, and I want to ____ how to play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lued the two part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d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izza would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plays the piano, and I want to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to play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going to bed because I am ___ slee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lued the two part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d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izza would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plays the piano, and I want to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to play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going to bed because I am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lee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 will have to take me to school because the bus has already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Meet Mrs. Frame on the carpet.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 will have to take me to school because the bus has alread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to the library as ____ as I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 will have to take me to school because the bus has alread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to the library a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I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is a fun day even _____ it is 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 will have to take me to school because the bus has alread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to the library a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I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is a fun day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is 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ord Wall Word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best</a:t>
            </a:r>
            <a:br>
              <a:rPr sz="4400"/>
            </a:br>
            <a:r>
              <a:rPr b="0" lang="en-US" sz="1600" spc="-1" strike="noStrike" u="sng">
                <a:solidFill>
                  <a:srgbClr val="ff6633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523880" y="1371600"/>
          <a:ext cx="6359760" cy="4076640"/>
        </p:xfrm>
        <a:graphic>
          <a:graphicData uri="http://schemas.openxmlformats.org/drawingml/2006/table">
            <a:tbl>
              <a:tblPr/>
              <a:tblGrid>
                <a:gridCol w="2119320"/>
                <a:gridCol w="2121120"/>
                <a:gridCol w="211932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qu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best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5" descr="Jester%252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6440" y="3581280"/>
            <a:ext cx="1000080" cy="15242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nest00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1447920"/>
            <a:ext cx="2228760" cy="16794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radpes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1447920"/>
            <a:ext cx="2238480" cy="1674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ladies_vest_powderblu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3581280"/>
            <a:ext cx="1121040" cy="16002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3" descr="oak-hope-chest-ki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2120" y="1447920"/>
            <a:ext cx="1596960" cy="167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5" descr="Bolton-Wanderers%40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733920" y="35812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6"/>
          <p:cNvSpPr/>
          <p:nvPr/>
        </p:nvSpPr>
        <p:spPr>
          <a:xfrm>
            <a:off x="1041840" y="3124080"/>
            <a:ext cx="10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4154760" y="3124080"/>
            <a:ext cx="9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6975000" y="3124080"/>
            <a:ext cx="9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9"/>
          <p:cNvSpPr/>
          <p:nvPr/>
        </p:nvSpPr>
        <p:spPr>
          <a:xfrm>
            <a:off x="1447920" y="51055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4087080" y="533412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1"/>
          <p:cNvSpPr/>
          <p:nvPr/>
        </p:nvSpPr>
        <p:spPr>
          <a:xfrm>
            <a:off x="6672600" y="5181480"/>
            <a:ext cx="8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Spelling Words: Consonant Digaphs</a:t>
            </a: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Which spelling word rhymes with: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294920"/>
            <a:ext cx="2819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p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w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wh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ynonym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ords mean almost the same thing.  These words are called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just read “The Strongest One.”  What are some synonyms for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dnesday’s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es an ant bite ic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Does an ant bite itch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, it stings to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Oh, it stings to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ntence that tells someone to do something.  It ends with a period.  The subject of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you is usually not sh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la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ntence that shows surprise or strong feelings.  It begins with a capital letter and ends with an exclamation m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 reading these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we’ll learn about words that begin and end with two or three consonants that stand for a single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balls and glo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Get the balls and glo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have a good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Let’s have a good g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a threw the ball to Ke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Tina threw the ball to Kev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it him on the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It hit him on the 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h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That hu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rap Up Your Day!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m and Fant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 and In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 they will hear more about someone searching for answers in a story called “Can Hens Give Milk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synonyms in sentences about being the strongest on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hur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animals eat the strangest things!  Today we will read about the anteater.  Anteaters search for food in an unusual way.  How do you think anteaters search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hur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animals eat the </a:t>
                      </a:r>
                      <a:r>
                        <a:rPr b="0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trange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ings!  Today we will read about the anteater.  Anteaters search for food in an unusual way.  How do you think anteaters search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hur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animals eat the strangest things!  Today we will read about the anteater.  Anteaters search for food in an </a:t>
                      </a:r>
                      <a:r>
                        <a:rPr b="0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unusua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ay.  How do you think anteaters search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oday we will learn about: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and exclam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nd answ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Arial"/>
              </a:rPr>
              <a:t>Read-Aloud</a:t>
            </a:r>
            <a:endParaRPr b="1" lang="en-US" sz="5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Can Hens Give Mil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entence Reading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 Mitch catch that fish in the water by the 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 get sleepy I stretch and then shut my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o see if these buns are fresh and w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entence Reading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imals by the shrubs had thin le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ke up early and then I brush my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rash bin was full of cans we had to wash and cru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9880" y="30456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nant digraphs consist of unlike consonants that stand for a single sound that is different from each consonant al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Freida Lewis\Desktop\sound cards\Card 7.jpg"/>
          <p:cNvPicPr/>
          <p:nvPr/>
        </p:nvPicPr>
        <p:blipFill>
          <a:blip r:embed="rId1"/>
          <a:srcRect l="115" t="0" r="0" b="11366"/>
          <a:stretch/>
        </p:blipFill>
        <p:spPr>
          <a:xfrm>
            <a:off x="460440" y="304920"/>
            <a:ext cx="2963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pelling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on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rap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wo or three letters that make one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ord Wall Word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drink</a:t>
            </a:r>
            <a:br>
              <a:rPr sz="4400"/>
            </a:br>
            <a:r>
              <a:rPr b="0" lang="en-US" sz="1600" spc="-1" strike="noStrike">
                <a:solidFill>
                  <a:srgbClr val="996600"/>
                </a:solidFill>
                <a:latin typeface="Verdana"/>
              </a:rPr>
              <a:t>(online dictionary)</a:t>
            </a:r>
            <a:endParaRPr b="1" lang="en-US" sz="1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523880" y="1371600"/>
          <a:ext cx="6359760" cy="4076640"/>
        </p:xfrm>
        <a:graphic>
          <a:graphicData uri="http://schemas.openxmlformats.org/drawingml/2006/table">
            <a:tbl>
              <a:tblPr/>
              <a:tblGrid>
                <a:gridCol w="2119320"/>
                <a:gridCol w="2121120"/>
                <a:gridCol w="211932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drink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5" descr="Norwegian_Korean_Standard_Link_Chain"/>
          <p:cNvPicPr/>
          <p:nvPr/>
        </p:nvPicPr>
        <p:blipFill>
          <a:blip r:embed="rId1"/>
          <a:stretch/>
        </p:blipFill>
        <p:spPr>
          <a:xfrm>
            <a:off x="685800" y="14479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mink_closeup"/>
          <p:cNvPicPr/>
          <p:nvPr/>
        </p:nvPicPr>
        <p:blipFill>
          <a:blip r:embed="rId2"/>
          <a:stretch/>
        </p:blipFill>
        <p:spPr>
          <a:xfrm>
            <a:off x="3048120" y="1447920"/>
            <a:ext cx="1276200" cy="1752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9" descr="Rink%2520on%2520the%2520River3"/>
          <p:cNvPicPr/>
          <p:nvPr/>
        </p:nvPicPr>
        <p:blipFill>
          <a:blip r:embed="rId3"/>
          <a:stretch/>
        </p:blipFill>
        <p:spPr>
          <a:xfrm>
            <a:off x="4724280" y="3809880"/>
            <a:ext cx="2210040" cy="1654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1" descr="oval_sink"/>
          <p:cNvPicPr/>
          <p:nvPr/>
        </p:nvPicPr>
        <p:blipFill>
          <a:blip r:embed="rId4"/>
          <a:stretch/>
        </p:blipFill>
        <p:spPr>
          <a:xfrm>
            <a:off x="6867360" y="144792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3" descr="Wink"/>
          <p:cNvPicPr/>
          <p:nvPr/>
        </p:nvPicPr>
        <p:blipFill>
          <a:blip r:embed="rId5"/>
          <a:stretch/>
        </p:blipFill>
        <p:spPr>
          <a:xfrm>
            <a:off x="685800" y="3733920"/>
            <a:ext cx="2286000" cy="1719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5" descr="20080819194232!Brink_of_the_falls,_Niagara_Falls"/>
          <p:cNvPicPr/>
          <p:nvPr/>
        </p:nvPicPr>
        <p:blipFill>
          <a:blip r:embed="rId6"/>
          <a:stretch/>
        </p:blipFill>
        <p:spPr>
          <a:xfrm>
            <a:off x="4876920" y="1447920"/>
            <a:ext cx="1415880" cy="175248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6"/>
          <p:cNvSpPr/>
          <p:nvPr/>
        </p:nvSpPr>
        <p:spPr>
          <a:xfrm>
            <a:off x="1325520" y="320040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3084120" y="31240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8"/>
          <p:cNvSpPr/>
          <p:nvPr/>
        </p:nvSpPr>
        <p:spPr>
          <a:xfrm>
            <a:off x="5145480" y="3200400"/>
            <a:ext cx="10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r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7125840" y="3276720"/>
            <a:ext cx="9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3091320" y="4419720"/>
            <a:ext cx="9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7040520" y="441972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Anteaters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Page 152 - 155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use this story to learn how to look answers to an AR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questions and answer ch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in the story to find the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your answer 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5" descr="Student Pages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Student Pages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ursday’s Fix-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ake me to see the antea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9900"/>
                </a:solidFill>
                <a:latin typeface="Arial"/>
              </a:rPr>
              <a:t>Take me to see the anteat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has such a strange sh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9900"/>
                </a:solidFill>
                <a:latin typeface="Arial"/>
              </a:rPr>
              <a:t>It has such a strange sha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tells someone to do something.  It ends with a period.  The subject of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ut you is usually not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Close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clamation is a sentence that shows surprise or strong feelings.  It begins with a capital letter and ends with an exclama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 love chocolate cak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p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spelled with the let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word pitch, the let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nd for 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also be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a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Be care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each sentence.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at ant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Look at that ante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, he looks so st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Oh, he looks so strang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him some 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ind him some 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w, see how long his tongu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wow, see how long his tongue 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peaking and Listening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reasons for asking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sk or answer a question, you should always be pol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poli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person spe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rap Up Your Day!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eard a story about two foolish people who thought hens could give milk.  Tomorrow you will hear about Shlomo and Rivka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hur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having fun in 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rdy tree hous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Fri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read about asking questions.  What did we find out about whom we can ask when we are looking for answers?  Where can we inquir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oday we will learn about: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 ch, tch, sh, th, w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frequency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ing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and exclamation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bush has thick bran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bu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thi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branch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 gave Beth fish and chi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 gave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Beth fis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 chi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things belong to my friend Sh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Those th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long to my friend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Sha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dog uses its mouth and teeth to catch the sti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dog uses its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mo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tee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ti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200400" y="1676520"/>
          <a:ext cx="3124080" cy="4017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0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ge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c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09880" y="304920"/>
            <a:ext cx="45720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nant digraphs consist of two unlike consonants that stand for a single sound that is different from either consonant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u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Content Placeholder 6" descr="card 32.jpg"/>
          <p:cNvPicPr/>
          <p:nvPr/>
        </p:nvPicPr>
        <p:blipFill>
          <a:blip r:embed="rId1"/>
          <a:srcRect l="0" t="0" r="0" b="15851"/>
          <a:stretch/>
        </p:blipFill>
        <p:spPr>
          <a:xfrm>
            <a:off x="380880" y="228600"/>
            <a:ext cx="3125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____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helps me ____ my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helps m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e is all _____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helps m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e is all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dress is _____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helps m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e is all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dress i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nd I can work _____ on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helps m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e is all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dress i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nd I can work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ord Wall Word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iday’s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ok for ants near tre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9900"/>
                </a:solidFill>
                <a:latin typeface="Arial"/>
              </a:rPr>
              <a:t>Look for ants near tre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tch out, they bi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9900"/>
                </a:solidFill>
                <a:latin typeface="Arial"/>
              </a:rPr>
              <a:t>Watch out, they bit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Map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m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outline picture of a place as if it were taken from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map k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s which symbol stands for places and things on the m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compass r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ll the directions on the m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86200" y="22824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nant digraphs consist of two unlike consonants that stand for a single sound that is different from either consonant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ontent Placeholder 6" descr="card 34.jpg"/>
          <p:cNvPicPr/>
          <p:nvPr/>
        </p:nvPicPr>
        <p:blipFill>
          <a:blip r:embed="rId1"/>
          <a:srcRect l="0" t="0" r="0" b="11111"/>
          <a:stretch/>
        </p:blipFill>
        <p:spPr>
          <a:xfrm>
            <a:off x="304920" y="304920"/>
            <a:ext cx="3308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rap Up Your Week!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33"/>
                </a:solidFill>
                <a:latin typeface="Arial"/>
              </a:rPr>
              <a:t>Let’s Tal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33"/>
                </a:solidFill>
                <a:latin typeface="Arial"/>
              </a:rPr>
              <a:t>Expl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Review Game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cabulary &amp; Amazing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g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lling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ia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lling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Frequency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 Potatoes (fill-in-the-bla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Fri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something delicate that becomes sturdy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TPlus Videos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Password Required)</a:t>
            </a: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457200" y="1828800"/>
          <a:ext cx="8305920" cy="365760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sop's Fables (13:00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to Picture Books: Books About Real Things (08:59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 Zoologist: Insects (11: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. Dad's PH3: Episode 10: Animal Architecture (14:45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bout Animals: Insects (12:00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e are now ready to take our story tests.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68360" y="1981080"/>
            <a:ext cx="618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webpag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pag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king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Reading Quiz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z # 9046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86200" y="22824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tters wh may b pronounced /hw/ or  /w/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ontent Placeholder 6" descr="card 41.jpg"/>
          <p:cNvPicPr/>
          <p:nvPr/>
        </p:nvPicPr>
        <p:blipFill>
          <a:blip r:embed="rId1"/>
          <a:srcRect l="0" t="0" r="0" b="10849"/>
          <a:stretch/>
        </p:blipFill>
        <p:spPr>
          <a:xfrm>
            <a:off x="304920" y="304920"/>
            <a:ext cx="3405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hark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t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nd for the sound 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therm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t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nd for the sound 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wh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t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nd for the sound 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8880" y="990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Big Question: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When we are searching for answers, </a:t>
            </a:r>
            <a:br>
              <a:rPr sz="2800"/>
            </a:b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whom can we ask?</a:t>
            </a:r>
            <a:endParaRPr b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00040" y="2666880"/>
            <a:ext cx="7093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12193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23920" y="114300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Monday</a:t>
            </a:r>
            <a:br>
              <a:rPr sz="3600"/>
            </a:b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76520" y="1981080"/>
          <a:ext cx="6095880" cy="3581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you wonder about some things?  Do you know why your eyes sometimes water on a warm day?  When we are searching for answers, whom can we ask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15"/>
          <p:cNvSpPr/>
          <p:nvPr/>
        </p:nvSpPr>
        <p:spPr>
          <a:xfrm>
            <a:off x="3124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1607760" y="106668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take our practice spelling test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Let’s Talk About </a:t>
            </a:r>
            <a:br>
              <a:rPr sz="4000"/>
            </a:br>
            <a:r>
              <a:rPr b="1" lang="en-US" sz="4000" spc="-1" strike="noStrike">
                <a:solidFill>
                  <a:srgbClr val="ff6633"/>
                </a:solidFill>
                <a:latin typeface="Arial"/>
              </a:rPr>
              <a:t>Exploration!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Student Pages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4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Realism and Fantasy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kinds of made-up stories—those that could really happen and those that could never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realistic s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ls about something that could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fanta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tory about something that could not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readers look for clues that tell them whether a story could really happen or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Arial"/>
              </a:rPr>
              <a:t>Read-Aloud</a:t>
            </a:r>
            <a:endParaRPr b="1" lang="en-US" sz="5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360" y="19051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A N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Place to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tells someone to do something.  It ends with a period.  The subject of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ut you is usually not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Pack your suit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a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shows surprise or strong feelings.  It begins with a capital letter and ends with an exclama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What a great trip this will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 can’t wait to g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Monday</a:t>
            </a:r>
            <a:br>
              <a:rPr sz="3600"/>
            </a:b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76520" y="1981080"/>
          <a:ext cx="6095880" cy="3581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you wonder about some things?  Do you know why your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ey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ometimes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ate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n a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ar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ay?  When we are searching for answers, whom can we ask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9"/>
          <p:cNvSpPr/>
          <p:nvPr/>
        </p:nvSpPr>
        <p:spPr>
          <a:xfrm>
            <a:off x="3124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your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Bring your ca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jacket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Put your jacket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w, I am so exc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Wow, I am so exci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rap Up Your Day!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m and Fant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 the class will read a fantasy about an ant that wants to know who is the strongest one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uesday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a fantasy about an ant with a question.  Whom does the ant check with to find the answer?  What does he find out?  Why is the ant shock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uesday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a fantasy about an ant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it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question.  Whom does the ant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ec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ith to find the answer?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a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oes he find out?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the ant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ocke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oday we will learn about: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m and fantas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and fix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word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and excla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Exploring Space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uesday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828800" y="28954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6633"/>
                </a:solidFill>
                <a:uFillTx/>
                <a:latin typeface="Arial"/>
                <a:hlinkClick r:id="rId1" action="ppaction://hlinksldjump"/>
              </a:rPr>
              <a:t>exhibit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ex – hib -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exhib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omething set up for you to look at in a place like a museum or z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ere amazed at the size of the dinosaur we saw in th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exhib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avorit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exhib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he zoo is the monkey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exhibit</a:t>
            </a:r>
            <a:r>
              <a:rPr b="1" lang="en-US" sz="4000" spc="-1" strike="noStrike" u="sng">
                <a:solidFill>
                  <a:srgbClr val="ff6633"/>
                </a:solidFill>
                <a:uFillTx/>
                <a:latin typeface="Arial"/>
                <a:hlinkClick r:id="rId1" action="ppaction://hlinksldjump"/>
              </a:rPr>
              <a:t>_x000b_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(Smithsonian, Washington D.C.)</a:t>
            </a:r>
            <a:endParaRPr b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85800" y="1294920"/>
            <a:ext cx="7772400" cy="4343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Smithsonian%252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428004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9" descr="IMG_062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29400" y="4284720"/>
            <a:ext cx="1809720" cy="1363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1" descr="391576985RuMUYj_f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4159080"/>
            <a:ext cx="1981080" cy="1479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smithsonian-dinosau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2819520"/>
            <a:ext cx="2057400" cy="1255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5" descr="2_15_jrduckstamp-2005-l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" y="1295280"/>
            <a:ext cx="2057400" cy="1413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7" descr="Exhibit_b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819520" y="1295280"/>
            <a:ext cx="2133360" cy="1608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9" descr="DSC_0443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477120" y="1295280"/>
            <a:ext cx="1962000" cy="1308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1" descr="610x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95480" y="2971800"/>
            <a:ext cx="1828800" cy="1197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3" descr="eric-long-smithsonian-flag-_95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029200" y="1295280"/>
            <a:ext cx="1300320" cy="1600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5" descr="2004023395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6477120" y="2743200"/>
            <a:ext cx="2019240" cy="1339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7" descr="Smithsonian-CTA_bus01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876920" y="4419720"/>
            <a:ext cx="1600200" cy="1193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9" descr="W_The-White-House_full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876920" y="2971800"/>
            <a:ext cx="15238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resist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re - s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res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thing, you work against it because you don’t wa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uldn’t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res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ughing out loud at the cl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healthy, your body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resi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tting s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tun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n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are shocked and very surpr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n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I found out my favorite teacher was lea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ister was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n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he won the pr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oday we will learn about: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mazing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m and fantasy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and excla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Arial"/>
              </a:rPr>
              <a:t>Read-Aloud</a:t>
            </a:r>
            <a:endParaRPr b="1" lang="en-US" sz="5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360" y="19051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A N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Place to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read this word because you know how to read words with consonant digraph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ound do the letter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nd for in this w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come to a new word, look at the word parts from left to right and think about the consonant digraph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the sounds in the word to yourself and then read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br>
              <a:rPr sz="4000"/>
            </a:b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 two or three consonants that stand for a single sound</a:t>
            </a:r>
            <a:endParaRPr b="1" lang="en-US" sz="2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p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chi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h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w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th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c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s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th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wh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clu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Phonics Song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listen to our poem, find words with a consonant di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Can We Tu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lis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1640" y="533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Phonics Songs and Rhymes Chart 5"/>
          <p:cNvPicPr/>
          <p:nvPr/>
        </p:nvPicPr>
        <p:blipFill>
          <a:blip r:embed="rId1"/>
          <a:srcRect l="0" t="0" r="0" b="9414"/>
          <a:stretch/>
        </p:blipFill>
        <p:spPr>
          <a:xfrm>
            <a:off x="4611600" y="228600"/>
            <a:ext cx="4246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Find the consonant digraphs in “Where Can We Turn?”</a:t>
            </a:r>
            <a:endParaRPr b="1" lang="en-US" sz="2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0" y="16765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Exploring Space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Monday</a:t>
            </a:r>
            <a:br>
              <a:rPr sz="3600"/>
            </a:b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828800" y="28954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ou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ou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ord Wall Word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than</a:t>
            </a:r>
            <a:br>
              <a:rPr sz="4400"/>
            </a:br>
            <a:r>
              <a:rPr b="0" lang="en-US" sz="1600" spc="-1" strike="noStrike" u="sng">
                <a:solidFill>
                  <a:srgbClr val="ff6633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523880" y="1371600"/>
          <a:ext cx="6359760" cy="4467240"/>
        </p:xfrm>
        <a:graphic>
          <a:graphicData uri="http://schemas.openxmlformats.org/drawingml/2006/table">
            <a:tbl>
              <a:tblPr/>
              <a:tblGrid>
                <a:gridCol w="2119320"/>
                <a:gridCol w="2121120"/>
                <a:gridCol w="2119320"/>
              </a:tblGrid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delicat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del – i - 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is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del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in and easily broken. 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Del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the opposite of stur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mom says to be very careful with that old vase because it’s so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del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reful not to step on th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del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owers in the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than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FE_Series_Floor_Powerful_Electric_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5238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igital-thermoter-p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1523880"/>
            <a:ext cx="1336680" cy="1447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02122008-1232041_Java%2520Sticks%2520-%2520Tan%2520Marb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66880" y="1523880"/>
            <a:ext cx="1981440" cy="1482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VW%2BVa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14400" y="3733920"/>
            <a:ext cx="1914480" cy="1439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3" descr="all-bran-front-400-61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396200" y="1523880"/>
            <a:ext cx="1035000" cy="16002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5" descr="CT-Scan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05320" y="3657600"/>
            <a:ext cx="2286000" cy="1535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7" descr="Harlem%2520Lift%2520Span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00800" y="3733920"/>
            <a:ext cx="2009880" cy="15033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8"/>
          <p:cNvSpPr/>
          <p:nvPr/>
        </p:nvSpPr>
        <p:spPr>
          <a:xfrm>
            <a:off x="1168560" y="3048120"/>
            <a:ext cx="7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3299400" y="2971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5592240" y="297180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7503120" y="3124080"/>
            <a:ext cx="9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2003400" y="5402160"/>
            <a:ext cx="18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3892320" y="5181480"/>
            <a:ext cx="15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t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404000" y="51814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7054920" y="525780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ill you do that ma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you do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ma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sh I could chase a wha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w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could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c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wh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them to pick a bunch from the p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ick a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bun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p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Realism and Fantasy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kinds of made-up stories—those that could really happen and those that could never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realistic s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ls about something that could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fanta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tory about something that could not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readers look for clues that tell them whether a story could really happen or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Monitor and Fix Up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be better readers by thinking about whether or not you understand what you read as you rea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ing attention to the illustrations (pictures) and to which character is talking are two ways you can help yourself understand what you are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514600" y="1066680"/>
          <a:ext cx="4267080" cy="461484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g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ge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c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Rectangle 9"/>
          <p:cNvSpPr/>
          <p:nvPr/>
        </p:nvSpPr>
        <p:spPr>
          <a:xfrm>
            <a:off x="6324480" y="14479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High-Frequency Word Review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47920" y="137160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002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rson who tells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rela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ople in the same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danger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ot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gna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bites at or wear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br>
              <a:rPr sz="4400"/>
            </a:b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angerous, gnaws, relatives, narrator 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is the ______ of our class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br>
              <a:rPr sz="4400"/>
            </a:b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angerous, gnaws, relatives, narrator 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is 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our class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y is about a family with lots of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br>
              <a:rPr sz="4400"/>
            </a:b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angerous, gnaws, relatives, narrator 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is 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our class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y is about a family with lots of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rela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boys in the family has a ______ pet r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inquir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n - qu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nqui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to ask questions or to try to find out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dad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nqui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the soccer sched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nqui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ther I had done all my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br>
              <a:rPr sz="4400"/>
            </a:b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angerous, gnaws, relatives, narrator 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is 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our class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y is about a family with lots of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rela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boys in the family has a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danger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t r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t rat _____ the legs of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br>
              <a:rPr sz="4400"/>
            </a:b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angerous, gnaws, relatives, narrator 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is 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our class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y is about a family with lots of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rela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boys in the family has a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danger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t r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t rat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na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legs of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uesday’s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time does the game st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What time does the game star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et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Get the ball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tells someone to do something.  It ends with a period.  The subject of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ut you is usually not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Look at that sun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a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shows surprise or strong feelings.  It begins with a capital letter and ends with an exclama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t is so beauti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also be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a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o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me a bas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Get me a bas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a huge bas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That is a huge bask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in the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Put in the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he 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Bring the 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no, I dropped the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Oh no, I dropped the f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rap Up Your Day!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and Fix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 we will find out more about searching for answers in “All Alone in Dinosaur Ha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uesday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a person or animal who is strongest of all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turdy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r - 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is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r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trong and sol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tand on that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r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nch to reach the cup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r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ee in the park was not affected by the big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600200" y="2209680"/>
          <a:ext cx="6095880" cy="2590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5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Did that really happen?  Or did Ollie just think it did?  Listen again.  See what you think!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2209680"/>
          <a:ext cx="7620120" cy="320040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at really happen?  Or did Ollie just think it did?  Listen again.  See what you think!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914400" y="2209680"/>
          <a:ext cx="7620120" cy="320040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at really happen?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did Ollie just think it did?  Listen again.  See what you think!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914400" y="2209680"/>
          <a:ext cx="7620120" cy="320040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at really happen?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did Ollie just think it did?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 again.  See what you think!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914400" y="2209680"/>
          <a:ext cx="7620120" cy="320040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at really happen?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did Ollie just think it did?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 again.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comm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what you think!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33520" y="2209680"/>
          <a:ext cx="8153280" cy="320040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at really happen?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did Ollie just think it did?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 again.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comm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what you think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comm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&amp; 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oday we will learn about: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ected en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and excla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Exploring Space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</a:t>
            </a:r>
            <a:br>
              <a:rPr sz="3600"/>
            </a:b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828800" y="28954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geniu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gen – 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who is very, very smart can be called a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geni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it would take a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geni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igure out this math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geni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es up with good solutions to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atisfaction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at – is – fac - 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eel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atisf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are pleased and contented with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m got great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atisf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winning the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gave m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atisf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do so well on the spelling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Ginger</cp:lastModifiedBy>
  <dcterms:modified xsi:type="dcterms:W3CDTF">2011-09-15T02:03:52Z</dcterms:modified>
  <cp:revision>28</cp:revision>
  <dc:subject/>
  <dc:title>Slide 1</dc:title>
</cp:coreProperties>
</file>